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008A-D387-49DD-8378-A4ABF5168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A163-DD48-4475-BEE0-4A9EE2399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4387-2581-427A-BE13-29482BD5C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5B89-0E72-41E1-83BF-6B43C4BBF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87029-8A8B-453F-A265-786302624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BDACC-5BA2-4368-AB01-B2546E522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4B0EC-84DD-4059-96C9-05C2A5415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8F220-60F9-452D-B2E1-68395EAB8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FECBB-4401-40E1-8EBD-06F20FF3B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2024F-7CE0-49E2-BD65-6F9EB131C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9BA39-0509-4B9A-8970-BD034E7E0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3D4E-AF44-45CF-96B8-40D0F13ED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B58A7-3A4C-48AE-AB18-4A78C647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44933-FA04-4FC6-8A80-6CC84DD4C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C9CA8-9E06-416B-B6B8-C0E88A16E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CC68F-322F-43B0-A7B3-F0BBA2BE7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F2930-EDE2-4534-9A23-02E2A2919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F7DC-8F32-4F08-9E6D-5B5B5742A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AF4C-D791-4448-808B-1DF0EBFFF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6698-E52E-49FA-BC87-5214E0952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8097-AD52-42D4-B7DB-92F17F986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A16D-B0CA-4983-A11B-9CEA77FC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3738-F950-4318-A8D9-6A452CCD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2ACA-386C-427A-A287-0649FA99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60468-B6B1-400A-9E9A-69DA6C0C4E3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C5D5C-A493-4067-8C87-D2685E86567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SIOP</a:t>
            </a:r>
            <a:br>
              <a:rPr sz="4800"/>
            </a:b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November 17, 2006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ed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mazing Aspen San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Kharismatic Kim Fis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arcastic Scott El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Objectives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aculty will engage in practice with the four features of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nterac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component of the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O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®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aculty will discuss the importance of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nterac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Interac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equent opportunities for interac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/or discussion between teacher/student and among students that encourage elaborated responses about lesson conce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oup configur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pport language and content objectives of the les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fficien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it time for student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e opportunities for students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arify key concepts in L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Frequent Opportunities for Interact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is more affective when students have opportunity to participate fully in lessons by discussing ideas and infor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benefit from communicating their ideas, opinions, and answers with pe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er tends to do most of the talking and with frequent interaction opportunities a balance between the teacher and student is cre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Grouping Configurat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may seem logical to group low-level English Language Learners with low-achieving students because their academic abilities seem the s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heterogeneous groups of learners with various language levels and proficien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variety of grouping structures: partners, triads, small groups, cooperative learning groups, or whole-gro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ait Time for Student Respons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it time allows English Language Learners time to gather their thoughts without interrup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balance between wait time and covering mater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arify Key Concepts in L1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rification of concept in L1 provides important support for the academic learning of English Language Learn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portunity to clarify English concept in L1 by speaking with an aide or pe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bilingual dictionary to clarify concepts as w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Interaction Idea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Response with White 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er-Writer-Speaker Response Tri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ide-Outside Cir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Your M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llery Wa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evisiting the Objectiv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aculty will engage in practice with the four features of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nterac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component of the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O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®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aculty will discuss the importance of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nterac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6T21:53:14Z</dcterms:created>
  <dc:creator>annramirez</dc:creator>
  <dc:description/>
  <dc:language>en-US</dc:language>
  <cp:lastModifiedBy>asanders1</cp:lastModifiedBy>
  <dcterms:modified xsi:type="dcterms:W3CDTF">2006-11-07T17:21:50Z</dcterms:modified>
  <cp:revision>52</cp:revision>
  <dc:subject/>
  <dc:title>District #6 SIOP Trainer of Trainers </dc:title>
</cp:coreProperties>
</file>